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1CBF6-C846-47BF-9C4D-CC44CD28A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D113C-CE09-4BE0-ABA5-E38EC6530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23C09-76B2-4031-8D07-0B87C03DE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805EA-BF84-46B6-80AB-736D65C27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C10B6-608C-4B25-8651-845ED9032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7BD9A-0E87-4A32-9BF8-27FB7291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F2651-7338-4D5D-B18A-EE7C2561D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0AED9-BD0D-4E97-99E6-56C1DD7CC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7CC2C-7C39-4A50-A200-487E72A3B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105BE-7B15-4361-A7D7-E760BCFE5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1EA8F-0486-4080-9709-D97B89820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354EB-BB67-43C3-9584-50435CFD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AE452-F788-4C85-BDFA-8667856DB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CF25B-1B52-4A42-BD1C-A92BAE36F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BD152-DE8F-45F7-97E9-92FFE68AE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39624-A479-4221-B4C7-AEEAC365E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8"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F47A1-AE76-48E1-9AFB-CFCDC2D48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DAD9D-D302-4FDC-BA6F-0CC511B9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9181A-8D78-4DAE-A736-1CF56A7E0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911B-5915-4EEC-A0BA-DBAD1D653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C0DFB-657F-4DE0-9613-1A086EC6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00D4-1AEC-4A28-97EC-A04DC52A0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2E44-A8FD-4CAA-8D09-A5FFE60C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37E1-7ACD-4FBD-91D4-185B708DE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525A-BAE4-43F8-ABE0-2870512156D0}"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Astonbnr"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2EAE-E8D4-4640-870C-A3EE12C280FC}"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01 Air Quality in the Home</a:t>
            </a:r>
            <a:endParaRPr b="0" lang="en-US" sz="4400" spc="-1" strike="noStrike">
              <a:solidFill>
                <a:srgbClr val="000000"/>
              </a:solidFill>
              <a:latin typeface="Arial"/>
            </a:endParaRPr>
          </a:p>
        </p:txBody>
      </p:sp>
      <p:sp>
        <p:nvSpPr>
          <p:cNvPr id="10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humidifier</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Appliance that removes excess moisture from the air as well as mildew, molds, rust, musty odors.  Generally NOT needed if there is an air conditioner in home (removes moisture as well as heat</a:t>
            </a:r>
            <a:r>
              <a:rPr b="0" lang="en-US" sz="3200" spc="-1" strike="noStrike">
                <a:solidFill>
                  <a:srgbClr val="333333"/>
                </a:solidFill>
                <a:latin typeface="Arial"/>
              </a:rPr>
              <a:t>)</a:t>
            </a:r>
            <a:endParaRPr b="0" lang="en-US" sz="3200" spc="-1" strike="noStrike">
              <a:solidFill>
                <a:srgbClr val="333333"/>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urifiers</a:t>
            </a:r>
            <a:endParaRPr b="0" lang="en-US" sz="4400" spc="-1" strike="noStrike">
              <a:solidFill>
                <a:srgbClr val="000000"/>
              </a:solidFill>
              <a:latin typeface="Arial"/>
            </a:endParaRPr>
          </a:p>
        </p:txBody>
      </p:sp>
      <p:sp>
        <p:nvSpPr>
          <p:cNvPr id="10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Reduces indoor pollution such as dust, mold, bacteria, and any other pollutants</a:t>
            </a:r>
            <a:r>
              <a:rPr b="0" lang="en-US" sz="3200" spc="-1" strike="noStrike">
                <a:solidFill>
                  <a:srgbClr val="333333"/>
                </a:solidFill>
                <a:latin typeface="Arial"/>
              </a:rPr>
              <a:t> </a:t>
            </a:r>
            <a:endParaRPr b="0" lang="en-US" sz="3200" spc="-1" strike="noStrike">
              <a:solidFill>
                <a:srgbClr val="333333"/>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Filters</a:t>
            </a:r>
            <a:endParaRPr b="0" lang="en-US" sz="4400" spc="-1" strike="noStrike">
              <a:solidFill>
                <a:srgbClr val="000000"/>
              </a:solidFill>
              <a:latin typeface="Arial"/>
            </a:endParaRPr>
          </a:p>
        </p:txBody>
      </p:sp>
      <p:sp>
        <p:nvSpPr>
          <p:cNvPr id="10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Used in furnaces and intake areas for removing dust from air or impurities from tobacco smoke and all other impurities. Should be changed at least every </a:t>
            </a:r>
            <a:r>
              <a:rPr b="0" lang="en-US" sz="4000" spc="-1" strike="noStrike">
                <a:solidFill>
                  <a:srgbClr val="333333"/>
                </a:solidFill>
                <a:latin typeface="Lucida Sans"/>
                <a:ea typeface="Times New Roman"/>
              </a:rPr>
              <a:t>30</a:t>
            </a:r>
            <a:r>
              <a:rPr b="0" lang="en-US" sz="3200" spc="-1" strike="noStrike">
                <a:solidFill>
                  <a:srgbClr val="333333"/>
                </a:solidFill>
                <a:latin typeface="Lucida Sans"/>
                <a:ea typeface="Times New Roman"/>
              </a:rPr>
              <a:t> days. Helps heating/air systems run more efficiently</a:t>
            </a:r>
            <a:r>
              <a:rPr b="0" lang="en-US" sz="3200" spc="-1" strike="noStrike">
                <a:solidFill>
                  <a:srgbClr val="333333"/>
                </a:solidFill>
                <a:latin typeface="Arial"/>
              </a:rPr>
              <a:t> </a:t>
            </a:r>
            <a:endParaRPr b="0" lang="en-US" sz="3200" spc="-1" strike="noStrike">
              <a:solidFill>
                <a:srgbClr val="333333"/>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Monoxide Detectors</a:t>
            </a:r>
            <a:endParaRPr b="0" lang="en-US" sz="4400" spc="-1" strike="noStrike">
              <a:solidFill>
                <a:srgbClr val="000000"/>
              </a:solidFill>
              <a:latin typeface="Arial"/>
            </a:endParaRPr>
          </a:p>
        </p:txBody>
      </p:sp>
      <p:sp>
        <p:nvSpPr>
          <p:cNvPr id="11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Inexpensive monitor that is used to detect levels of a colorless, odorless gas produced by the incomplete burning of fossil fuels (natural gas</a:t>
            </a:r>
            <a:r>
              <a:rPr b="0" lang="en-US" sz="3200" spc="-1" strike="noStrike">
                <a:solidFill>
                  <a:srgbClr val="333333"/>
                </a:solidFill>
                <a:latin typeface="Lucida Sans"/>
                <a:ea typeface="Lucida Sans Unicode"/>
              </a:rPr>
              <a:t>, wood, propane, gasoline).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Lucida Sans"/>
                <a:ea typeface="Times New Roman"/>
              </a:rPr>
              <a:t>Sounds an alarm when low levels of the gas are detected</a:t>
            </a:r>
            <a:r>
              <a:rPr b="0" lang="en-US" sz="3200" spc="-1" strike="noStrike">
                <a:solidFill>
                  <a:srgbClr val="333333"/>
                </a:solidFill>
                <a:latin typeface="Arial"/>
              </a:rPr>
              <a:t> </a:t>
            </a:r>
            <a:endParaRPr b="0" lang="en-US" sz="3200" spc="-1" strike="noStrike">
              <a:solidFill>
                <a:srgbClr val="333333"/>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Monoxide con’t</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Most local building codes require all new homes to have a detector and some cities require one for all homes regardless of age of home</a:t>
            </a:r>
            <a:endParaRPr b="0" lang="en-US" sz="3200" spc="-1" strike="noStrike">
              <a:solidFill>
                <a:srgbClr val="333333"/>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on</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Radioactive gas that occurs naturally in some types of soil and rock.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Can seep into home through cracks in foundation.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Home tests are available to check for high levels of radon.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Linked to lung cancer and other breathing ailments</a:t>
            </a:r>
            <a:endParaRPr b="0" lang="en-US" sz="3200" spc="-1" strike="noStrike">
              <a:solidFill>
                <a:srgbClr val="3333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besto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Flame-retardant mineral substance found in homes and buildings constructed before 1978.  </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Becomes a major problem when asbestos starts to crumble or is damaged</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inked to lung cancer</a:t>
            </a:r>
            <a:endParaRPr b="0" lang="en-US" sz="3200" spc="-1" strike="noStrike">
              <a:solidFill>
                <a:srgbClr val="333333"/>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Lucida Sans Unicode"/>
              </a:rPr>
              <a:t>Found in water pipes in homes built before 1988 and in paint in homes built before 1970. </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Lucida Sans Unicode"/>
              </a:rPr>
              <a:t>Can cause developmental and behavioral problems for children.</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Lucida Sans Unicode"/>
              </a:rPr>
              <a:t> </a:t>
            </a:r>
            <a:r>
              <a:rPr b="0" lang="en-US" sz="3200" spc="-1" strike="noStrike">
                <a:solidFill>
                  <a:srgbClr val="333333"/>
                </a:solidFill>
                <a:latin typeface="Lucida Sans"/>
                <a:ea typeface="Lucida Sans Unicode"/>
              </a:rPr>
              <a:t>Contact local health dept. if there is a possibility of lead in home. </a:t>
            </a: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idifier</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Adds moisture into air of home, especially in dry areas of the country. </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Lucida Sans"/>
                <a:ea typeface="Times New Roman"/>
              </a:rPr>
              <a:t>Static electricity, split wood floors and furniture are SURE signs that home is too dry. </a:t>
            </a: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0:23:31Z</dcterms:created>
  <dc:creator> sherry brooks</dc:creator>
  <dc:description/>
  <dc:language>en-US</dc:language>
  <cp:lastModifiedBy> sherry brooks</cp:lastModifiedBy>
  <dcterms:modified xsi:type="dcterms:W3CDTF">2009-05-11T00:43:17Z</dcterms:modified>
  <cp:revision>2</cp:revision>
  <dc:subject/>
  <dc:title>8.01 Air Quality in the Home</dc:title>
</cp:coreProperties>
</file>